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29.wmf" ContentType="image/x-wmf"/>
  <Override PartName="/ppt/media/image26.wmf" ContentType="image/x-wmf"/>
  <Override PartName="/ppt/media/image46.jpeg" ContentType="image/jpeg"/>
  <Override PartName="/ppt/media/image25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45.jpeg" ContentType="image/jpeg"/>
  <Override PartName="/ppt/media/image15.wmf" ContentType="image/x-wmf"/>
  <Override PartName="/ppt/media/image41.jpeg" ContentType="image/jpeg"/>
  <Override PartName="/ppt/media/image14.wmf" ContentType="image/x-wmf"/>
  <Override PartName="/ppt/media/image24.wmf" ContentType="image/x-wmf"/>
  <Override PartName="/ppt/media/image1.wmf" ContentType="image/x-wmf"/>
  <Override PartName="/ppt/media/image7.jpeg" ContentType="image/jpeg"/>
  <Override PartName="/ppt/media/image31.wmf" ContentType="image/x-wmf"/>
  <Override PartName="/ppt/media/image38.jpeg" ContentType="image/jpeg"/>
  <Override PartName="/ppt/media/image2.png" ContentType="image/png"/>
  <Override PartName="/ppt/media/image23.wmf" ContentType="image/x-wmf"/>
  <Override PartName="/ppt/media/image51.jpeg" ContentType="image/jpeg"/>
  <Override PartName="/ppt/media/image9.jpeg" ContentType="image/jpeg"/>
  <Override PartName="/ppt/media/image27.wmf" ContentType="image/x-wmf"/>
  <Override PartName="/ppt/media/image34.jpeg" ContentType="image/jpeg"/>
  <Override PartName="/ppt/media/image33.wmf" ContentType="image/x-wmf"/>
  <Override PartName="/ppt/media/image35.jpeg" ContentType="image/jpeg"/>
  <Override PartName="/ppt/media/image50.wmf" ContentType="image/x-wmf"/>
  <Override PartName="/ppt/media/image13.wmf" ContentType="image/x-wmf"/>
  <Override PartName="/ppt/media/image10.jpeg" ContentType="image/jpeg"/>
  <Override PartName="/ppt/media/image40.jpeg" ContentType="image/jpeg"/>
  <Override PartName="/ppt/media/image44.jpeg" ContentType="image/jpeg"/>
  <Override PartName="/ppt/media/image42.jpeg" ContentType="image/jpeg"/>
  <Override PartName="/ppt/media/image43.jpeg" ContentType="image/jpeg"/>
  <Override PartName="/ppt/media/image47.jpeg" ContentType="image/jpeg"/>
  <Override PartName="/ppt/media/image12.wmf" ContentType="image/x-wmf"/>
  <Override PartName="/ppt/media/image49.jpeg" ContentType="image/jpeg"/>
  <Override PartName="/ppt/media/image32.wmf" ContentType="image/x-wmf"/>
  <Override PartName="/ppt/media/image48.jpeg" ContentType="image/jpeg"/>
  <Override PartName="/ppt/media/image52.wmf" ContentType="image/x-wmf"/>
  <Override PartName="/ppt/media/image53.jpeg" ContentType="image/jpeg"/>
  <Override PartName="/ppt/media/image30.wmf" ContentType="image/x-wmf"/>
  <Override PartName="/ppt/media/image37.jpeg" ContentType="image/jpeg"/>
  <Override PartName="/ppt/media/image28.wmf" ContentType="image/x-wmf"/>
  <Override PartName="/ppt/media/image8.jpeg" ContentType="image/jpeg"/>
  <Override PartName="/ppt/media/image39.jpeg" ContentType="image/jpeg"/>
  <Override PartName="/ppt/media/image4.wmf" ContentType="image/x-wmf"/>
  <Override PartName="/ppt/media/image3.png" ContentType="image/png"/>
  <Override PartName="/ppt/media/image11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3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9F7C-E556-45BB-BF49-4FCD3BFD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17F4-4A7D-4B6F-81AC-2C77EAFB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20AC-D6E8-4828-A5C4-8A51AD3D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802E-48E2-48FB-B503-FF97F464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F4A1-4B14-44C9-9C4E-4CC57C27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32BD-FBFC-44BA-ADEB-385340F2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7DD4-64B4-44A9-B079-EE825C53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8127-D53E-4E61-A8CB-BE2ED000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22B2-FB43-4F16-8578-C6CA0645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F761-B557-49C0-8971-C60EADC4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71BE-5D49-4077-8D26-6283165C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FE8E-DB16-4FC7-905E-9F539B0F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0F4E-AB3E-4093-8DAA-DC5E035AE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-arcade.net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mailto:adelina@fmi.uni-sofia.bg" TargetMode="External"/><Relationship Id="rId2" Type="http://schemas.openxmlformats.org/officeDocument/2006/relationships/hyperlink" Target="mailto:adelina@fmi.uni-sofia.bg" TargetMode="External"/><Relationship Id="rId3" Type="http://schemas.openxmlformats.org/officeDocument/2006/relationships/hyperlink" Target="mailto:adelina@fmi.uni-sofia.bg" TargetMode="External"/><Relationship Id="rId4" Type="http://schemas.openxmlformats.org/officeDocument/2006/relationships/hyperlink" Target="mailto:adelina@fmi.uni-sofia.bg" TargetMode="External"/><Relationship Id="rId5" Type="http://schemas.openxmlformats.org/officeDocument/2006/relationships/hyperlink" Target="mailto:adelina@fmi.uni-sofia.bg" TargetMode="External"/><Relationship Id="rId6" Type="http://schemas.openxmlformats.org/officeDocument/2006/relationships/hyperlink" Target="mailto:adelina@fmi.uni-sofia.bg" TargetMode="External"/><Relationship Id="rId7" Type="http://schemas.openxmlformats.org/officeDocument/2006/relationships/hyperlink" Target="mailto:adelina@fmi.uni-sofia.bg" TargetMode="External"/><Relationship Id="rId8" Type="http://schemas.openxmlformats.org/officeDocument/2006/relationships/hyperlink" Target="mailto:adelina@fmi.uni-sofia.bg" TargetMode="External"/><Relationship Id="rId9" Type="http://schemas.openxmlformats.org/officeDocument/2006/relationships/hyperlink" Target="mailto:adelina@fmi.uni-sofia.bg" TargetMode="External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4.wmf"/><Relationship Id="rId1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4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2.wmf"/><Relationship Id="rId4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1432080"/>
          <a:ext cx="9144000" cy="27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32080"/>
                    <a:ext cx="914400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Платформа за електронно</a:t>
            </a:r>
            <a:r>
              <a:rPr b="1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</a:t>
            </a: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ADE</a:t>
            </a: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001000" y="380880"/>
            <a:ext cx="990720" cy="890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1447920"/>
            <a:ext cx="114300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8120" y="4572000"/>
            <a:ext cx="3362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Аделина Алекси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2720" y="6172200"/>
            <a:ext cx="20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София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39400" y="380880"/>
            <a:ext cx="21589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Факултет по математика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СУ “Св. Климент Охридски”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ПРЕПОДАВАТЕЛ: 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Редактиране на кур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92240" y="1752480"/>
            <a:ext cx="68054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ПРЕПОДАВАТЕЛ: 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Редактиране на кур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98680" y="1879560"/>
            <a:ext cx="63612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Регистриране на студент в система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11000" y="1866960"/>
            <a:ext cx="2641320" cy="29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Избира с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Explorer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и се записва адреса: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e-arcade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0"/>
          <a:ext cx="7810560" cy="87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0"/>
                    <a:ext cx="78105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a1" descr=""/>
          <p:cNvPicPr/>
          <p:nvPr/>
        </p:nvPicPr>
        <p:blipFill>
          <a:blip r:embed="rId4"/>
          <a:stretch/>
        </p:blipFill>
        <p:spPr>
          <a:xfrm>
            <a:off x="3327480" y="1879560"/>
            <a:ext cx="539748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094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Регистриране на студент в система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803240"/>
            <a:ext cx="303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.Избира се връзка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0"/>
          <a:ext cx="78105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78105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a2" descr=""/>
          <p:cNvPicPr/>
          <p:nvPr/>
        </p:nvPicPr>
        <p:blipFill>
          <a:blip r:embed="rId3"/>
          <a:stretch/>
        </p:blipFill>
        <p:spPr>
          <a:xfrm>
            <a:off x="2279520" y="3406680"/>
            <a:ext cx="492156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49200" y="227340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Появява се следния екра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Регистриране на студент в система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0"/>
          <a:ext cx="78105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78105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7" name="a3" descr=""/>
          <p:cNvPicPr/>
          <p:nvPr/>
        </p:nvPicPr>
        <p:blipFill>
          <a:blip r:embed="rId3"/>
          <a:stretch/>
        </p:blipFill>
        <p:spPr>
          <a:xfrm>
            <a:off x="2941560" y="2133720"/>
            <a:ext cx="528804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49200" y="227340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Избира се следния буто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Регистриране на студент в система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0"/>
          <a:ext cx="78105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78105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a4" descr=""/>
          <p:cNvPicPr/>
          <p:nvPr/>
        </p:nvPicPr>
        <p:blipFill>
          <a:blip r:embed="rId3"/>
          <a:stretch/>
        </p:blipFill>
        <p:spPr>
          <a:xfrm>
            <a:off x="4432320" y="2482920"/>
            <a:ext cx="144792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49200" y="227340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Появява се следния екра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Регистриране на студент в система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0"/>
          <a:ext cx="78105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78105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a5" descr=""/>
          <p:cNvPicPr/>
          <p:nvPr/>
        </p:nvPicPr>
        <p:blipFill>
          <a:blip r:embed="rId3"/>
          <a:stretch/>
        </p:blipFill>
        <p:spPr>
          <a:xfrm>
            <a:off x="2697120" y="1932120"/>
            <a:ext cx="540540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11040" y="1892160"/>
            <a:ext cx="73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Попълва се форма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Регистриране на студент в система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0"/>
          <a:ext cx="78105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78105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a6" descr=""/>
          <p:cNvPicPr/>
          <p:nvPr/>
        </p:nvPicPr>
        <p:blipFill>
          <a:blip r:embed="rId1"/>
          <a:stretch/>
        </p:blipFill>
        <p:spPr>
          <a:xfrm>
            <a:off x="1096920" y="927000"/>
            <a:ext cx="71517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УЧАЩ: индивидуална програ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382240" cy="372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380880" y="0"/>
          <a:ext cx="7810560" cy="87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0"/>
                    <a:ext cx="78105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60240" y="107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ARCADE - A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rchitecture for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R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eusable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C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ourseware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A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uthoring and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DE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li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2857680"/>
            <a:ext cx="77724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ПЛАТФОРМА за електронно обуч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480" y="0"/>
          <a:ext cx="78105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0"/>
                    <a:ext cx="78105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35040" y="3873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СИСТЕМА за дистанционно водене на самостоятелни курсо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УЧАЩ: Изглед от кур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71480" y="1879560"/>
            <a:ext cx="71550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УЧАЩ: дистанционно разглеждане на кур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920000" cy="425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457200" y="0"/>
          <a:ext cx="7810560" cy="87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0"/>
                    <a:ext cx="78105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Times New Roman"/>
              </a:rPr>
              <a:t>УЧАЩ: изпитване чрез те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1805040"/>
            <a:ext cx="7763040" cy="341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609480" y="0"/>
          <a:ext cx="7810560" cy="87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0"/>
                    <a:ext cx="78105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Times New Roman"/>
              </a:rPr>
              <a:t>УЧАЩ: изпитване чрез те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04920" y="1833480"/>
            <a:ext cx="8305560" cy="415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304920" y="0"/>
          <a:ext cx="7810560" cy="87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0"/>
                    <a:ext cx="78105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Обратна връзка между преподавател и учащ в АРКЕЙ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213372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Times New Roman"/>
              </a:rPr>
              <a:t>Асинхронна комуникация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ътрешна пощ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за нови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усионни фору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Times New Roman"/>
              </a:rPr>
              <a:t>Синхронна комуникация 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ч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33520" y="0"/>
          <a:ext cx="78105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78105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Система за нови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8810640" cy="405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228600" y="0"/>
          <a:ext cx="7810560" cy="87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0"/>
                    <a:ext cx="78105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Разпространение на материали /чрез виртуални дискове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8348760" cy="396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304920" y="0"/>
          <a:ext cx="7810560" cy="87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0"/>
                    <a:ext cx="78105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Организиране на група от курсове в АРКЕЙ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90720" y="2286000"/>
          <a:ext cx="7307280" cy="33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0"/>
                    <a:ext cx="730728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09480" y="0"/>
          <a:ext cx="7810560" cy="87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0"/>
                    <a:ext cx="78105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УЧАЩ: възможност за избор на индивидуална учебна програ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600680" cy="357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609480" y="0"/>
          <a:ext cx="7810560" cy="87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0"/>
                    <a:ext cx="78105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Виртуален Университе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3520" y="2209680"/>
          <a:ext cx="8340480" cy="34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8340480" cy="34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609480" y="0"/>
          <a:ext cx="7810560" cy="87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0"/>
                    <a:ext cx="78105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Основни принципи в</a:t>
            </a:r>
            <a:r>
              <a:rPr b="0" lang="bg-BG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ARCAD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зползване на следните стандар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/XSL,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S, LOM, SC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творена платфор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ML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въвеждане или извеждане на информация от платформа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Модулна архитекту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Създаване на програма за семестъ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401320" cy="409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380880" y="152280"/>
          <a:ext cx="7810560" cy="87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52280"/>
                    <a:ext cx="78105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delina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fmi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uni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-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sofia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.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b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880" y="0"/>
          <a:ext cx="7810560" cy="879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0880" y="0"/>
                    <a:ext cx="78105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447920" y="1704960"/>
            <a:ext cx="258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За контак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47640" y="4292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35040" y="27810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Times New Roman"/>
              </a:rPr>
              <a:t>Въпрос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80880" y="0"/>
          <a:ext cx="78105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78105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Характеристики на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ARCAD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ИНТЕРНЕТ базира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Платформено независи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Многоезикова поддръж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0"/>
          <a:ext cx="78105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78105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Архитектура</a:t>
            </a: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на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ARCAD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0"/>
          <a:ext cx="78105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78105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92040" y="1779480"/>
            <a:ext cx="7983720" cy="4529160"/>
          </a:xfrm>
          <a:prstGeom prst="rect">
            <a:avLst/>
          </a:prstGeom>
          <a:solidFill>
            <a:srgbClr val="33cc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43040" y="3219480"/>
            <a:ext cx="3672000" cy="1758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ARC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04120" y="3219480"/>
            <a:ext cx="1519200" cy="72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за тест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04120" y="4156200"/>
            <a:ext cx="1519200" cy="885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за курсови проек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30440" y="5167440"/>
            <a:ext cx="2228760" cy="923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о-административна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32320" y="2130480"/>
            <a:ext cx="3689280" cy="822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ическо-административна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3280" y="3173400"/>
            <a:ext cx="1557000" cy="720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bg-BG" sz="1800" spc="-1" strike="noStrike">
                <a:solidFill>
                  <a:srgbClr val="003300"/>
                </a:solidFill>
                <a:latin typeface="Arial"/>
              </a:rPr>
              <a:t>Ча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3280" y="2165400"/>
            <a:ext cx="1557000" cy="784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bg-BG" sz="1800" spc="-1" strike="noStrike">
                <a:solidFill>
                  <a:srgbClr val="003300"/>
                </a:solidFill>
                <a:latin typeface="Arial"/>
              </a:rPr>
              <a:t>Съобщ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11080" y="4156200"/>
            <a:ext cx="1519200" cy="720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bg-BG" sz="1800" spc="-1" strike="noStrike">
                <a:solidFill>
                  <a:srgbClr val="003300"/>
                </a:solidFill>
                <a:latin typeface="Arial"/>
              </a:rPr>
              <a:t>Пощ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85880" y="5245200"/>
            <a:ext cx="1519200" cy="720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00"/>
                </a:solidFill>
                <a:latin typeface="Verdana"/>
              </a:rPr>
              <a:t>В</a:t>
            </a:r>
            <a:r>
              <a:rPr b="1" lang="en-GB" sz="1800" spc="-1" strike="noStrike">
                <a:solidFill>
                  <a:srgbClr val="003300"/>
                </a:solidFill>
                <a:latin typeface="Verdana"/>
              </a:rPr>
              <a:t>иртуа</a:t>
            </a:r>
            <a:r>
              <a:rPr b="1" lang="bg-BG" sz="1800" spc="-1" strike="noStrike">
                <a:solidFill>
                  <a:srgbClr val="003300"/>
                </a:solidFill>
                <a:latin typeface="Verdana"/>
              </a:rPr>
              <a:t>-</a:t>
            </a:r>
            <a:r>
              <a:rPr b="1" lang="en-GB" sz="1800" spc="-1" strike="noStrike">
                <a:solidFill>
                  <a:srgbClr val="003300"/>
                </a:solidFill>
                <a:latin typeface="Verdana"/>
              </a:rPr>
              <a:t>лен</a:t>
            </a:r>
            <a:r>
              <a:rPr b="1" lang="bg-BG" sz="18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3300"/>
                </a:solidFill>
                <a:latin typeface="Verdana"/>
              </a:rPr>
              <a:t>дис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85880" y="2170080"/>
            <a:ext cx="1656000" cy="7588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00"/>
                </a:solidFill>
                <a:latin typeface="Arial"/>
              </a:rPr>
              <a:t>Дискус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6960" y="5218200"/>
            <a:ext cx="2989440" cy="8604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 за създаване и публикуване на курс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143000" y="1905120"/>
          <a:ext cx="124128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124128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143000" y="3200400"/>
          <a:ext cx="124128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200400"/>
                    <a:ext cx="124128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990720" y="1600200"/>
          <a:ext cx="1579320" cy="30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1600200"/>
                    <a:ext cx="1579320" cy="30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676520" y="2819520"/>
          <a:ext cx="96840" cy="43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2819520"/>
                    <a:ext cx="9684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131920" y="5027760"/>
          <a:ext cx="1835280" cy="1293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1920" y="5027760"/>
                    <a:ext cx="183528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724280" y="5105520"/>
          <a:ext cx="1170000" cy="876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24280" y="5105520"/>
                    <a:ext cx="11700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019920" y="5105520"/>
          <a:ext cx="1170000" cy="876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5105520"/>
                    <a:ext cx="11700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419720" y="5029200"/>
          <a:ext cx="2911320" cy="1290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19720" y="5029200"/>
                    <a:ext cx="291132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3581280" y="5375160"/>
          <a:ext cx="1143000" cy="163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81280" y="5375160"/>
                    <a:ext cx="1143000" cy="1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858000" y="3276720"/>
          <a:ext cx="1170000" cy="876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858000" y="3276720"/>
                    <a:ext cx="11700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858000" y="2057400"/>
          <a:ext cx="1170000" cy="876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858000" y="2057400"/>
                    <a:ext cx="11700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477120" y="1828800"/>
          <a:ext cx="1831680" cy="2911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477120" y="1828800"/>
                    <a:ext cx="1831680" cy="29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895480" y="2133720"/>
          <a:ext cx="1187640" cy="1095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895480" y="2133720"/>
                    <a:ext cx="118764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286000" y="2362320"/>
          <a:ext cx="1066680" cy="295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286000" y="2362320"/>
                    <a:ext cx="10666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362320" y="2895480"/>
          <a:ext cx="930240" cy="9032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362320" y="2895480"/>
                    <a:ext cx="93024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352680" y="3505320"/>
          <a:ext cx="379440" cy="10951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352680" y="3505320"/>
                    <a:ext cx="37944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666880" y="4572000"/>
          <a:ext cx="876600" cy="4302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66880" y="4572000"/>
                    <a:ext cx="8766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038480" y="3505320"/>
          <a:ext cx="885960" cy="10951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038480" y="3505320"/>
                    <a:ext cx="8859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572000" y="4572000"/>
          <a:ext cx="714240" cy="3906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572000" y="4572000"/>
                    <a:ext cx="7142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562720" y="3505320"/>
          <a:ext cx="350640" cy="10951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5562720" y="3505320"/>
                    <a:ext cx="35064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410080" y="4572000"/>
          <a:ext cx="354240" cy="3538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410080" y="4572000"/>
                    <a:ext cx="3542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V="1">
            <a:off x="5943600" y="32763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648320" y="281916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7621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Потребители в</a:t>
            </a: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ARCAD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80880" y="0"/>
          <a:ext cx="7810560" cy="8794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80880" y="0"/>
                    <a:ext cx="78105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438280" y="5105520"/>
          <a:ext cx="1170000" cy="8762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2438280" y="5105520"/>
                    <a:ext cx="11700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Организиране на самостоятелен дистанционен курс в АРКЕЙ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2408400"/>
          <a:ext cx="7772400" cy="32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08400"/>
                    <a:ext cx="7772400" cy="32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85800" y="0"/>
          <a:ext cx="7810560" cy="87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0"/>
                    <a:ext cx="78105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Етапи при създаване на самостоятелен  дистанционен кур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на курса и неговото огласява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иране и подбиране на участници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ване на учащ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структуриране на програмата на курса (планиране на методите, етапите на обучение и сформиране на учебно съдържан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ждане на програмата на кур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яване на процеса и резултатите от провеждане на кур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ване на сертификат (удостоверение за придобити знания/умен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0"/>
          <a:ext cx="78105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78105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8116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new-4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153280" cy="4724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9480" y="371520"/>
            <a:ext cx="7620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7621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ПРЕПОДАВАТЕЛ: Административно създаване на група от студен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0"/>
          <a:ext cx="7810560" cy="87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0"/>
                    <a:ext cx="78105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3T09:31:06Z</dcterms:created>
  <dc:creator>aa</dc:creator>
  <dc:description/>
  <dc:language>en-US</dc:language>
  <cp:lastModifiedBy>aa</cp:lastModifiedBy>
  <dcterms:modified xsi:type="dcterms:W3CDTF">2004-04-26T12:16:38Z</dcterms:modified>
  <cp:revision>83</cp:revision>
  <dc:subject/>
  <dc:title>АРКЕЙД – платформа за дистанционно обучение. Начини на приложение</dc:title>
</cp:coreProperties>
</file>