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03A-A970-4611-B4E0-4D671860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468-783E-49F9-A019-0517A20D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6380-72DC-4705-8C0B-0DE3C707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44A-573F-4A55-B18B-78656EA3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E0A9-FB44-4BAB-BF66-520B173C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9B82-D041-4C99-8C38-4EE548D2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7A0A-7250-4E6F-BD17-AB513D2F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1C39-369D-4A39-A07C-4C990477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B38B-91EC-4FE3-BA92-A67047953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44DB-30BE-423A-99CF-127E7212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D9C7-F93F-4CBD-A5BC-DB15B83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547-F1DD-48AB-B528-1955717C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E72E-31F5-4414-91DB-49670D59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CA17-B1BA-4894-A7E5-45438D59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1F79-0D43-49D6-A94C-693A30FA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C645-CA10-4199-8CEC-479C992A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6E03-99AA-40F1-8D2D-EEAF9DE5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515-0B2E-4127-AFD0-314BA9C4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E61-B834-49D8-89B1-37323B30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166-7BD4-4A1B-84BC-5DF80345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D83-6641-4BFA-959F-4914F54C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6DB-FA29-488A-9727-A87E5847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A40-C47E-4DDC-B26D-B4F1942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86A-EF37-40D6-B06B-A51BCC7B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BD5D-C06C-4D9C-A45E-4EAC8B9084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7EF2-3682-4C21-A00C-B63873C050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ahoma"/>
              </a:rPr>
              <a:t>Рила Солюшънс ЕА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761760" y="9144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333399"/>
                </a:solidFill>
                <a:latin typeface="Tahoma"/>
              </a:rPr>
              <a:t>Система за регистриране и обработка на заяв</a:t>
            </a:r>
            <a:r>
              <a:rPr b="1" lang="bg-BG" sz="4000" spc="-1" strike="noStrike">
                <a:solidFill>
                  <a:srgbClr val="333399"/>
                </a:solidFill>
                <a:latin typeface="Tahoma"/>
              </a:rPr>
              <a:t>ления</a:t>
            </a:r>
            <a:r>
              <a:rPr b="1" sz="4000" spc="-1" strike="noStrike">
                <a:solidFill>
                  <a:srgbClr val="333399"/>
                </a:solidFill>
                <a:latin typeface="Tahoma"/>
              </a:rPr>
              <a:t> и повреди, Център 130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69960" y="95580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Заявл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Видове съоръжения за които се подават заявле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елефонни посто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ISDN 2B+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ISDN 30B+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2 MB ли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монетни, жетонни и фонокартни апара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наети ли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елек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Допълнителни услуг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Заявл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Реализирани са следните етап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Регистрация на заявл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Клас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роучв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Изпращане на уведомителни пис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лащ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ускане на нарежд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Изпълнение на нареждане (строеж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риключв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Анулир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Паспортиза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Модулът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позволява описание на кабелната мрежа на логическо или физическо ниво, в зависимост от конфигурацията 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Модулът е гъвкав и поддържа описанието на различни типове мреж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Основните елементи, които подлежат на описание със своите параметри в този модул са както следв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Паспортизация - елем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Устрой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Наименование, производител, тип, инвентарен ном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ехнологична сграда, мреж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Входящ и изходящ капацитет, компрес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естваемо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ъстоя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Адрес или позиция в устройство към което принадлеж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Забележ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Паспортизация - елем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Кабе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Наименование, вид и ти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Начална и крайна технологична сграда на каб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Устройство от което започва каб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ъстоя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Общ брой и брой на резервните чифто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Забележ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Паспортизация - елем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Чифто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Ном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Начално и крайно крайно устройство към които е свързан чиф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озиции в устройс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ва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тату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ъстоя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Използвани жила в чиф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Паспортизация - елем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Трас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расето (линията) позволява описването на връзката между чифтовете и устройствата, осъществяващи връзката до крайното устройство на клиен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Има възможност за описване на трасета с компресиращи и декомпресиращи устройства (напр. P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Повре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Параметр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татуси - открита, предадена на техник по мрежата, закр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ехник работещ по повред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Начало и край на работата на тех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При откриване на повре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ип повреда, Дата, Оператор, Място, Забележ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При закрива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ип повреда, Дата, Оператор, Място, Забележ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Кабелни повред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Модул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ът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позволява обявяването на даден кабел или част от него в състояние повред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Тази информация се визуализира в Абонатните картони, в част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а 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им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повред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Има възможност за автоматично закриване на кабелна повреда, чрез измерване на трасетата на засегнатите от повредата чифто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Измер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Системата позволява автоматично измерване на параметрите на линии - трасета, при използване на необходимия хардуер и софтуе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Измерват се следните параметри: DCAB, DCAG, DCBG, ACAB, ACAG, ACBG, RAB, RAG, RBG, CAB, CAG, CB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Модулът прави оценка на измерените стойности и дава вероятната повреда в даденото съоръж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333399"/>
                </a:solidFill>
                <a:latin typeface="Times New Roman"/>
                <a:ea typeface="Arial"/>
              </a:rPr>
              <a:t>Цялостно облужване на клиентите и мрежа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Осигурява затворени автоматизирани технологични цикли з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Регистрация на заявления за услуги, класация на потенциалните клиенти, проучване за наличен капацитет и техническа възможност, договори, плащания, фактуриране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Регистрация на повреди, разпределение по технически служби, обработка на данни за групови повреди, тестване на трасе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ддръжка на пълен диапазон данни за паспортизация на инсталираното оборудване и мрежа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Осигуряване на информация и статистически данни за продажби, паспортизация, повред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ГИС подложка,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all center</a:t>
            </a:r>
            <a:r>
              <a:rPr b="0" lang="bg-BG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C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Абонатни картони - параметр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Абонатния картон съдържа информация з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Абонат: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елефонен номе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Клиент, потребител и адрес на по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ип на телефо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Технологична сграда и капацит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татус на картона установен с последен бюлет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Номер и дата на последен бюлет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Дати на създаване и построяване на линия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ъстояние на броячите при построяв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Абонатни картони - параметр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Nо на дуплекс, ако има такъ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Трасе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Описание на линията, EQN, M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араметри на линията (RAB, RAG, RBG, Ri, CAB)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ъстоя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Забележ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Устройства и услуг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писък на крайните устрой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писък на услугите - тип, дата на построяване, валидност от/до д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писък на подчинените номер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Абонатен карто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Търсенето на абонатен ка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тон става по номер на телефон или с разширена форма на търсене по следните критери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3733920"/>
            <a:ext cx="42670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лефон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ен но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абон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упа техни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хн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3733920"/>
            <a:ext cx="3276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пац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бон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юлет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упле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б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Адрес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Aдресът, макар и не обособен като отделен модул, е основен за системата и описва почти всички останали обек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Всеки параметър - списък позволява избирането му от предварително въведени списъци с наименова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Търсенето в списъците включва и търсене в стари версии на записите, като по този начин системата получава възможността да поддържа стари наименования на улици, квартали и др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Адрес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Параметр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Населено Място (списък), Пощенски к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Община (списъ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Квартал - Наименование (списъ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Улица - Наименование (списък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Улица номе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Блок, Вход, Етаж, Апартаме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Забележ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Адрес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Съществува възможност за автоматична промяна на адресите в следните случа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ромяна името на улицат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обединяване на две или повече улици в една но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разделяне на една улица на две нови, чрез специфициране за всяка улица на новите им номе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Клиен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Клиента може да бъде частно лице, юридическо лице или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търговско  юридическо лиц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Избирането на типа клиент води до възможност за работа само с параметрите на съответния тип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Клиенти - параметр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Частно лиц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Им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Паспор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ЕГ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Гражданств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Осигурителен ном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Адрес за кореспонд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Задължително е въвеждането на Име и ЕГ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Юридическо лиц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Наименов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Данни за съдебна регистр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БУЛСТА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Данъчен ном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ahoma"/>
              </a:rPr>
              <a:t>Адрес за кореспонд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Задължително е въвеждането на Наименование , БУЛСТАТ и  Данъчен ном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Сигурност на Систе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Потребители и парол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ри стартиране на системата от всеки един потребител се изисква да въведе своя индентификатор и парола - дефинирани в 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Допълнително администраторът трябва да дефинира потребителя и в системата, задавайки правата му на достъп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Домей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истемата позволява употребата й само в рамките на предварително зададен домей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Сигурност на систе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Рестрикции на адресното простран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използването на системата се огранич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ава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само в рамките на определени зони от IP адресното пространств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Cook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ри стартиране на системата се изисква на работното място да е инсталирано предварително специфично cookie, с което администратора е разрешил достъпа до система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333399"/>
                </a:solidFill>
                <a:latin typeface="Tahoma"/>
              </a:rPr>
              <a:t>Внедря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РУД Соф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50 000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клиен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работни ме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РУД Пловди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0 000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клиен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30 работни ме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800" spc="-1" strike="noStrike">
                <a:solidFill>
                  <a:srgbClr val="000000"/>
                </a:solidFill>
                <a:latin typeface="Tahoma"/>
              </a:rPr>
              <a:t>ЕФЕКТ: 3 пъти по-бързо отстраняване на повреди за последните 3 месе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Сигурност на систе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Версии на даннит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Всички оперативни таблици на системата поддържат "версии" на записите, т.е. отразяват всички промени на данните във времет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Log f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всяко действие на поребителите се регистрира, с което администраторът може да следи за неправомерни действ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SS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допълнително 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се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използва SSL, с което се елиминира възможността за неправомерно следене на трафи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Администрация на систе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Системата предоставя възможности на системния администратор да кофигурира достъпа на потребителите до различните модули, форми и справк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Права 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на достъп са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: за четене, четене и запис или пълна забрана на достъпа до всеки един модул или части от не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Администрация на систе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Портебителите могат да бъдат групирани т.е. чрез употребата на групи, лесно да бъдат раздавани права на достъп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Администратор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ът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има възможност да кофигурира менюто на системата, като по този начин формира нови модули от вече изградените елемен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29628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Основни характеристи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Интранет техноло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ORACLE RDB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MS Internet Informatio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ML </a:t>
            </a:r>
            <a:r>
              <a:rPr b="0" lang="bg-BG" sz="3200" spc="-1" strike="noStrike">
                <a:solidFill>
                  <a:srgbClr val="000000"/>
                </a:solidFill>
                <a:latin typeface="Tahoma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Предимства на систе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Централизирана обработка и съхранение на даннит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Централизирана администрация на система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Възможност за отдалечен достъ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Минимални разходи за софтуер на клиентските работни ме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аксимална сигурност на данните и системата, базирани на мощните средства на Ora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Предимства на систе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Скалируемост на систем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Минимално време за развойна дейно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Минимални средства за обучение на персонала за администрация и развитие на систем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Основни модули на система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Заявл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Паспортиза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ahoma"/>
              </a:rPr>
              <a:t>Повред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Заявл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одул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ът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втоматиз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ира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всички дейности, свързани с подаване и обработка на заявления за всички услуги, предоставяни от БТК на клиен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елизирани </a:t>
            </a:r>
            <a:r>
              <a:rPr b="0" lang="bg-BG" sz="2800" spc="-1" strike="noStrike">
                <a:solidFill>
                  <a:srgbClr val="000000"/>
                </a:solidFill>
                <a:latin typeface="Tahoma"/>
              </a:rPr>
              <a:t>са</a:t>
            </a:r>
            <a:r>
              <a:rPr b="0" sz="2800" spc="-1" strike="noStrike">
                <a:solidFill>
                  <a:srgbClr val="000000"/>
                </a:solidFill>
                <a:latin typeface="Tahoma"/>
              </a:rPr>
              <a:t> действията свързани с движението на документите към техническите служби и абонатен център с цел автоматизирано създаване, промяна и закриване на абонатни картони на обслужваните съоръж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333399"/>
                </a:solidFill>
                <a:latin typeface="Tahoma"/>
              </a:rPr>
              <a:t>Заявле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41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ahoma"/>
              </a:rPr>
              <a:t>Видове заявления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откриване на телефон или съоръж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реместв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закриване по жел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пира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закриване и възстановяв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мяна на номе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реименув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предоставян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е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за ползва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смяна на типа на абон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допълнителни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3:06:38Z</dcterms:created>
  <dc:creator>georgem</dc:creator>
  <dc:description/>
  <dc:language>en-US</dc:language>
  <cp:lastModifiedBy>Plamen Stoynov</cp:lastModifiedBy>
  <dcterms:modified xsi:type="dcterms:W3CDTF">2002-02-19T09:07:54Z</dcterms:modified>
  <cp:revision>79</cp:revision>
  <dc:subject/>
  <dc:title>Система за регистриране и  обработка на заявки и повреди,  Център 13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65021645</vt:r8>
  </property>
  <property fmtid="{D5CDD505-2E9C-101B-9397-08002B2CF9AE}" pid="3" name="_AuthorEmailDisplayName">
    <vt:lpwstr>Plamen Stoynov</vt:lpwstr>
  </property>
  <property fmtid="{D5CDD505-2E9C-101B-9397-08002B2CF9AE}" pid="4" name="_EmailSubject">
    <vt:lpwstr>TOSCA seminar</vt:lpwstr>
  </property>
</Properties>
</file>