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369-1C64-4351-AE72-A02B10B9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1C5-CDD1-4780-A4C7-5B6A82E7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B54-BEDB-4794-B214-CF89D39E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254-80A6-41D9-B7B1-7D78BA2A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EF7-E4FF-4EAD-9EC7-8FCCFD9B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BCE5-4E60-4B50-BDD7-645F927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8F6-1679-4958-A459-652A3C3F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9CF-9220-4694-B830-5900B323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6999-B911-4EAC-8AE1-D58E97D9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F72-A8C0-48BF-9B7B-3D9386F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2361-86C9-4FB2-9516-566C0A3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D5D-FA8D-45FF-B8FB-5D566EE3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39B-0D21-4D4A-B46A-C0975A3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0B2-B0BA-4E52-A5ED-848B772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87D-844E-45FA-B6E0-799EBE7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8B9-F022-47B0-872B-1732C790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9842-8452-4CC8-BAE4-0F2DAF8B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B02-80DB-4BB3-AD49-E63004D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ECD-409B-4DF6-8D1D-DA958B6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266-00BD-4923-9220-0DFCA8AB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5EB-FEE7-4346-A86C-3704C9C8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29C-7AB6-4490-AAC0-919DB3B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F1D-C988-401C-8017-D553AE4F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0B1-E660-404F-A361-9B7E9B69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B549-2767-4605-AAA5-7651C559C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9D82-D883-47CB-84A6-B3328954B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cma.org.uk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frc.org/" TargetMode="External"/><Relationship Id="rId2" Type="http://schemas.openxmlformats.org/officeDocument/2006/relationships/hyperlink" Target="http://www.afrc.org/" TargetMode="External"/><Relationship Id="rId3" Type="http://schemas.openxmlformats.org/officeDocument/2006/relationships/hyperlink" Target="http://www.afrc.org/" TargetMode="External"/><Relationship Id="rId4" Type="http://schemas.openxmlformats.org/officeDocument/2006/relationships/hyperlink" Target="http://www.afrc.org/" TargetMode="External"/><Relationship Id="rId5" Type="http://schemas.openxmlformats.org/officeDocument/2006/relationships/hyperlink" Target="http://www.afrc.org/" TargetMode="External"/><Relationship Id="rId6" Type="http://schemas.openxmlformats.org/officeDocument/2006/relationships/hyperlink" Target="mailto:dadian@francenet.fr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cc66"/>
                </a:solidFill>
                <a:latin typeface="Arial"/>
              </a:rPr>
              <a:t>Методи и средства за развитие на центровете за повикване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Доц. д-р Петко Руско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едра: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зчислителни систе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МИ, СУ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. Климент Охридски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. 087 455 7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: petkor@rila.b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logo" descr=""/>
          <p:cNvPicPr/>
          <p:nvPr/>
        </p:nvPicPr>
        <p:blipFill>
          <a:blip r:embed="rId1"/>
          <a:stretch/>
        </p:blipFill>
        <p:spPr>
          <a:xfrm>
            <a:off x="83548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C43-D755-43D7-8937-5BE076893E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Критерии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Производителност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обем на обслужвания, натоварване на линиите, време за отгов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Функционални характеристики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–обслужване на глас, данни, образ, запис на повикванията, обработване на неудовлетворени заявки, самообслуждане, управление на проекта, качество на обслужване, удовлетвореност на клиенти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ървоначална сума, статични и динамични разходи, възвръщаемост на инвестиции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Бенчмаркинг –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най-добра практика, световна практ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logo" descr=""/>
          <p:cNvPicPr/>
          <p:nvPr/>
        </p:nvPicPr>
        <p:blipFill>
          <a:blip r:embed="rId1"/>
          <a:stretch/>
        </p:blipFill>
        <p:spPr>
          <a:xfrm>
            <a:off x="800100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33F-BA33-40A5-B684-734983981E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Функционалнос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0048471a" descr=""/>
          <p:cNvPicPr/>
          <p:nvPr/>
        </p:nvPicPr>
        <p:blipFill>
          <a:blip r:embed="rId1"/>
          <a:stretch/>
        </p:blipFill>
        <p:spPr>
          <a:xfrm>
            <a:off x="1508040" y="1347840"/>
            <a:ext cx="6126120" cy="4160880"/>
          </a:xfrm>
          <a:prstGeom prst="rect">
            <a:avLst/>
          </a:prstGeom>
          <a:ln w="0">
            <a:noFill/>
          </a:ln>
        </p:spPr>
      </p:pic>
      <p:pic>
        <p:nvPicPr>
          <p:cNvPr id="121" name="logo" descr=""/>
          <p:cNvPicPr/>
          <p:nvPr/>
        </p:nvPicPr>
        <p:blipFill>
          <a:blip r:embed="rId2"/>
          <a:stretch/>
        </p:blipFill>
        <p:spPr>
          <a:xfrm>
            <a:off x="7924680" y="396252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43E-E81B-421C-9DFB-A99A478342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Методи за повишаване на прозводителностт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. Непрекъснато усъвършенстване на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производителност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2. Ре-инженеринг на бизнес процесите в центровете за повиква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logo" descr=""/>
          <p:cNvPicPr/>
          <p:nvPr/>
        </p:nvPicPr>
        <p:blipFill>
          <a:blip r:embed="rId1"/>
          <a:stretch/>
        </p:blipFill>
        <p:spPr>
          <a:xfrm>
            <a:off x="79246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3DC-9203-4083-9F24-03FEBDC9B7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. Непрекъснато усъвършенстване на </a:t>
            </a: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производителностт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иране на проц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яване на критерии и измерит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ледяване на проц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ване на производителност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</a:rPr>
              <a:t>Анализ на проце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не и извършване на   усъвършенст-ване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logo" descr=""/>
          <p:cNvPicPr/>
          <p:nvPr/>
        </p:nvPicPr>
        <p:blipFill>
          <a:blip r:embed="rId1"/>
          <a:stretch/>
        </p:blipFill>
        <p:spPr>
          <a:xfrm>
            <a:off x="8001000" y="380988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E2B-2097-41DD-9334-5FB754009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2. Ре-инженеринг на бизнес процесит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не на </a:t>
            </a:r>
            <a:r>
              <a:rPr b="0" i="1" lang="bg-BG" sz="3200" spc="-1" strike="noStrike">
                <a:solidFill>
                  <a:srgbClr val="ffffff"/>
                </a:solidFill>
                <a:latin typeface="Times New Roman"/>
              </a:rPr>
              <a:t>целта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хва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ване опита на другит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граждане на процеси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i="1" lang="bg-BG" sz="32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i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иране на п</a:t>
            </a:r>
            <a:r>
              <a:rPr b="0" i="1" lang="bg-BG" sz="32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i="1" lang="bg-BG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ход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ff"/>
                </a:solidFill>
                <a:latin typeface="Times New Roman"/>
              </a:rPr>
              <a:t>Прилагане на новите проце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logo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65E-9776-4DA2-9398-B10867F6B8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Програмни продукти з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Мениджмънт на взаимоотношенията с клиенти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Управление на промени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Мобилни комуник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Обучение на клиентите и персон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logo" descr=""/>
          <p:cNvPicPr/>
          <p:nvPr/>
        </p:nvPicPr>
        <p:blipFill>
          <a:blip r:embed="rId1"/>
          <a:stretch/>
        </p:blipFill>
        <p:spPr>
          <a:xfrm>
            <a:off x="79246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F04-912B-4E68-B36B-B2EE04F77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CS-50" descr=""/>
          <p:cNvPicPr/>
          <p:nvPr/>
        </p:nvPicPr>
        <p:blipFill>
          <a:blip r:embed="rId1"/>
          <a:stretch/>
        </p:blipFill>
        <p:spPr>
          <a:xfrm>
            <a:off x="2273400" y="2319480"/>
            <a:ext cx="3155760" cy="40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F6E-0C2A-404F-9C97-4B095FCF4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Обучение и развитие на работещит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Знания, умения, навиц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Мора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Ангажиране, задържа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Отсъст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C15-F73C-4A95-9E6F-8C465BB36E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Обуч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Комуникационни ум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луша/гово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Чете/пиш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Технологични ум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Компют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правочни материа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изнес проце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logo" descr=""/>
          <p:cNvPicPr/>
          <p:nvPr/>
        </p:nvPicPr>
        <p:blipFill>
          <a:blip r:embed="rId1"/>
          <a:stretch/>
        </p:blipFill>
        <p:spPr>
          <a:xfrm>
            <a:off x="784872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CD3-448A-4C8F-BA71-FA74F99A87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Форми на обучение на персона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Лекции/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Семинарни срещ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Менторин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Фасилитейшъ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Коачин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Самообу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logo" descr=""/>
          <p:cNvPicPr/>
          <p:nvPr/>
        </p:nvPicPr>
        <p:blipFill>
          <a:blip r:embed="rId1"/>
          <a:stretch/>
        </p:blipFill>
        <p:spPr>
          <a:xfrm>
            <a:off x="7924680" y="396252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39D-AB17-42EF-A94C-D5D584EBF6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Съдъ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Въ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Тенденц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Методи за развитие и усъвършенства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ред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Обу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Наемане на услугат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ourcing</a:t>
            </a:r>
            <a:r>
              <a:rPr b="0" i="1" lang="bg-BG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Въпроси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logo" descr=""/>
          <p:cNvPicPr/>
          <p:nvPr/>
        </p:nvPicPr>
        <p:blipFill>
          <a:blip r:embed="rId2"/>
          <a:stretch/>
        </p:blipFill>
        <p:spPr>
          <a:xfrm>
            <a:off x="8354880" y="396252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F28-21C9-4498-BEA7-CED2FF28C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Сценар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Фокусиране към инов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Развитие на търговската мар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A29-86E6-428F-84BA-85561B7A04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Цена на преход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1"/>
          <a:stretch/>
        </p:blipFill>
        <p:spPr>
          <a:xfrm>
            <a:off x="8077320" y="3962520"/>
            <a:ext cx="1577880" cy="1382760"/>
          </a:xfrm>
          <a:prstGeom prst="rect">
            <a:avLst/>
          </a:prstGeom>
          <a:ln w="0">
            <a:noFill/>
          </a:ln>
        </p:spPr>
      </p:pic>
      <p:pic>
        <p:nvPicPr>
          <p:cNvPr id="151" name="0048471c" descr=""/>
          <p:cNvPicPr/>
          <p:nvPr/>
        </p:nvPicPr>
        <p:blipFill>
          <a:blip r:embed="rId2"/>
          <a:stretch/>
        </p:blipFill>
        <p:spPr>
          <a:xfrm>
            <a:off x="1514520" y="1433520"/>
            <a:ext cx="611496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DF7-65CE-468A-9282-3392FF2BAF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Наемане на услугата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(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Outsourcing</a:t>
            </a:r>
            <a:r>
              <a:rPr b="0" i="1" lang="bg-BG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Използване на партньор за по-ефективно изпълнение на услуга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Предимств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По-голямя гъвкавост – персонал, технологии, време за реакц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Намаляне на големите капитални разходи за центъ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Оптимизиране на ресурси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logo" descr=""/>
          <p:cNvPicPr/>
          <p:nvPr/>
        </p:nvPicPr>
        <p:blipFill>
          <a:blip r:embed="rId1"/>
          <a:stretch/>
        </p:blipFill>
        <p:spPr>
          <a:xfrm>
            <a:off x="800100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FAA-FEF9-4A57-9EE8-110E7D84AE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logo" descr=""/>
          <p:cNvPicPr/>
          <p:nvPr/>
        </p:nvPicPr>
        <p:blipFill>
          <a:blip r:embed="rId1"/>
          <a:stretch/>
        </p:blipFill>
        <p:spPr>
          <a:xfrm>
            <a:off x="79246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A4A-136D-4385-8AA1-EFBDDC85A5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ll Centre Organisations  throughout the World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Association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2"/>
              </a:rPr>
              <a:t>Francaise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3"/>
              </a:rPr>
              <a:t> de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4"/>
              </a:rPr>
              <a:t> Centre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5"/>
              </a:rPr>
              <a:t> de Relation Client  (France)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6"/>
              </a:rPr>
              <a:t>_x000b_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Association - New Zealand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Council of Singapore 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Forum (Germany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Network Group (USA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Networking Group (Sth Africa) 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logo" descr=""/>
          <p:cNvPicPr/>
          <p:nvPr/>
        </p:nvPicPr>
        <p:blipFill>
          <a:blip r:embed="rId7"/>
          <a:stretch/>
        </p:blipFill>
        <p:spPr>
          <a:xfrm>
            <a:off x="3782880" y="2736720"/>
            <a:ext cx="1578240" cy="1382760"/>
          </a:xfrm>
          <a:prstGeom prst="rect">
            <a:avLst/>
          </a:prstGeom>
          <a:ln w="0">
            <a:noFill/>
          </a:ln>
        </p:spPr>
      </p:pic>
      <p:pic>
        <p:nvPicPr>
          <p:cNvPr id="161" name="logo" descr=""/>
          <p:cNvPicPr/>
          <p:nvPr/>
        </p:nvPicPr>
        <p:blipFill>
          <a:blip r:embed="rId8"/>
          <a:stretch/>
        </p:blipFill>
        <p:spPr>
          <a:xfrm>
            <a:off x="807732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7F6-7079-43BC-89B4-C08576B511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ll Centre Organisations  throughout the Wor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Managers Association (The Netherland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Centre Management Association (Ireland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Management Association Asia Pacific (Australia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ll Centre Management Association (Canada)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er Management &amp; Multimedia Call Centre (Ita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logo" descr=""/>
          <p:cNvPicPr/>
          <p:nvPr/>
        </p:nvPicPr>
        <p:blipFill>
          <a:blip r:embed="rId1"/>
          <a:stretch/>
        </p:blipFill>
        <p:spPr>
          <a:xfrm>
            <a:off x="800100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626-F90A-42D9-B1F3-9C80424E53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ll Centre Organisations  throughout the Wor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razilian Association of Customer Care (Brazil) 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elp Desk Institute (Finland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lp Desk Institute Europ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ong Kong Call Centre Associatio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ervice Quality Management (Norway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Services Institute (Denmark)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Call Centre Association (Malay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logo" descr=""/>
          <p:cNvPicPr/>
          <p:nvPr/>
        </p:nvPicPr>
        <p:blipFill>
          <a:blip r:embed="rId1"/>
          <a:stretch/>
        </p:blipFill>
        <p:spPr>
          <a:xfrm>
            <a:off x="807732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094-3081-4D5A-B0B9-EF16C25AFE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99"/>
                </a:solidFill>
                <a:latin typeface="Verdana"/>
              </a:rPr>
              <a:t>http://www.</a:t>
            </a:r>
            <a:r>
              <a:rPr b="0" lang="bg-BG" sz="1800" spc="-1" strike="noStrike">
                <a:solidFill>
                  <a:srgbClr val="ffff99"/>
                </a:solidFill>
                <a:latin typeface="Verdana"/>
              </a:rPr>
              <a:t>callcenternews</a:t>
            </a:r>
            <a:r>
              <a:rPr b="0" lang="bg-BG" sz="2000" spc="-1" strike="noStrike">
                <a:solidFill>
                  <a:srgbClr val="ffff99"/>
                </a:solidFill>
                <a:latin typeface="Verdana"/>
              </a:rPr>
              <a:t>.com/resources/statistics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Verdana"/>
              </a:rPr>
              <a:t>Human Resources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ording to a survey of 771 US call centers, the 186 managers who participated stated that the average hourly wage of top-paid full-time agents ranged from $6.90 to $40 (median $15). The five most competitive industries for top-paid agents' hourly wages who paid $15 and up were Computers (91%), Manufacturing (86%), Healthcare (63%), Insurance (62%), and Telecommunications (62%), which may suggest when correlated with other salary data from the survey that businesses in these industries value agents once they are fully trained in the company's products/servic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coming Calls Management Institute, 6/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logo" descr=""/>
          <p:cNvPicPr/>
          <p:nvPr/>
        </p:nvPicPr>
        <p:blipFill>
          <a:blip r:embed="rId1"/>
          <a:stretch/>
        </p:blipFill>
        <p:spPr>
          <a:xfrm>
            <a:off x="8077320" y="403848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6D6-A604-4DF8-A283-17B0D81E83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cc66"/>
                </a:solidFill>
                <a:latin typeface="Arial"/>
              </a:rPr>
              <a:t>Благодаря за вниманието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Въпроси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bg-BG" sz="7200" spc="-1" strike="noStrike">
                <a:solidFill>
                  <a:srgbClr val="ffff99"/>
                </a:solidFill>
                <a:latin typeface="Times New Roman"/>
              </a:rPr>
              <a:t>?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8800" spc="-1" strike="noStrike">
                <a:solidFill>
                  <a:srgbClr val="ff0033"/>
                </a:solidFill>
                <a:latin typeface="Times New Roman"/>
              </a:rPr>
              <a:t>?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</a:rPr>
              <a:t>?         </a:t>
            </a:r>
            <a:r>
              <a:rPr b="0" lang="bg-BG" sz="8800" spc="-1" strike="noStrike">
                <a:solidFill>
                  <a:srgbClr val="ff0033"/>
                </a:solidFill>
                <a:latin typeface="Times New Roman"/>
              </a:rPr>
              <a:t>? </a:t>
            </a:r>
            <a:r>
              <a:rPr b="0" lang="bg-BG" sz="54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0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bg-BG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5400" spc="-1" strike="noStrike">
                <a:solidFill>
                  <a:srgbClr val="ffff00"/>
                </a:solidFill>
                <a:latin typeface="Arial"/>
              </a:rPr>
              <a:t>? </a:t>
            </a:r>
            <a:r>
              <a:rPr b="0" lang="bg-BG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90000"/>
              </a:lnSpc>
              <a:spcBef>
                <a:spcPts val="15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ahoma"/>
              </a:rPr>
              <a:t>???</a:t>
            </a:r>
            <a:r>
              <a:rPr b="0" lang="bg-BG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60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8000" spc="-1" strike="noStrike">
                <a:solidFill>
                  <a:srgbClr val="66ffcc"/>
                </a:solidFill>
                <a:latin typeface="Georgia"/>
              </a:rPr>
              <a:t>?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logo" descr=""/>
          <p:cNvPicPr/>
          <p:nvPr/>
        </p:nvPicPr>
        <p:blipFill>
          <a:blip r:embed="rId1"/>
          <a:stretch/>
        </p:blipFill>
        <p:spPr>
          <a:xfrm>
            <a:off x="83548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D72-7DE3-47EA-9B16-BD802D6335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Въвед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Промяна на средат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Клиентит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Бизнесъ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Технологиит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Форми на обслужване на клиентит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Обаждане по телефона – оператор/автома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Използване на факс/електронна пощ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Попълване на уеб фор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Он-лайн услу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1"/>
          <a:stretch/>
        </p:blipFill>
        <p:spPr>
          <a:xfrm>
            <a:off x="8001000" y="396252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658-ACA2-45D9-868F-07406F1A1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Тенден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Повишаване на цената за оперира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Увеличаване на броя на повиквания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Увеличаване на времето за обслужва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Повишаване на очакванията на клиенти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Проблем </a:t>
            </a:r>
            <a:r>
              <a:rPr b="0" lang="bg-BG" sz="3200" spc="-1" strike="noStrike">
                <a:solidFill>
                  <a:srgbClr val="ff0033"/>
                </a:solidFill>
                <a:latin typeface="Times New Roman"/>
              </a:rPr>
              <a:t>баланс между цена и кач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logo" descr=""/>
          <p:cNvPicPr/>
          <p:nvPr/>
        </p:nvPicPr>
        <p:blipFill>
          <a:blip r:embed="rId1"/>
          <a:stretch/>
        </p:blipFill>
        <p:spPr>
          <a:xfrm>
            <a:off x="8001000" y="388620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F9C-78DF-4FBE-AB1F-97E461E56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Ключови наблюд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Цената на транзакциите с клиентите с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Увеличава при участие на хор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Намалява при използване на технологиите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 от 1 цент при Интернет транзакц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Позициониране на стратегиите към пълно задоволяване на клиентите и използване на технологиит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Гарантиране на качествени услуги и системи за измерване на добавената стойност за клиентит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logo" descr=""/>
          <p:cNvPicPr/>
          <p:nvPr/>
        </p:nvPicPr>
        <p:blipFill>
          <a:blip r:embed="rId1"/>
          <a:stretch/>
        </p:blipFill>
        <p:spPr>
          <a:xfrm>
            <a:off x="8077320" y="380988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43-D70E-4347-BA5A-4B7624AF6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Елементи на добрата услу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якой, които познава продукта/услуга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якой, който изслушва клиен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якой, който решава пробл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якой, който уважава клиен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8001000" y="396252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B92-7C3B-4F93-AB64-5DBA242AA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Стратегии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0048471b" descr=""/>
          <p:cNvPicPr/>
          <p:nvPr/>
        </p:nvPicPr>
        <p:blipFill>
          <a:blip r:embed="rId1"/>
          <a:stretch/>
        </p:blipFill>
        <p:spPr>
          <a:xfrm>
            <a:off x="1508040" y="1347840"/>
            <a:ext cx="6126120" cy="4160880"/>
          </a:xfrm>
          <a:prstGeom prst="rect">
            <a:avLst/>
          </a:prstGeom>
          <a:ln w="0">
            <a:noFill/>
          </a:ln>
        </p:spPr>
      </p:pic>
      <p:pic>
        <p:nvPicPr>
          <p:cNvPr id="108" name="logo" descr=""/>
          <p:cNvPicPr/>
          <p:nvPr/>
        </p:nvPicPr>
        <p:blipFill>
          <a:blip r:embed="rId2"/>
          <a:stretch/>
        </p:blipFill>
        <p:spPr>
          <a:xfrm>
            <a:off x="79246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858-08AB-4547-BCA5-ABC20A6857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Алтернативни перспектив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Създаване и поддържане на услуга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Бизнес процес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Човешки факт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аемане на услугат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ourc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logo" descr=""/>
          <p:cNvPicPr/>
          <p:nvPr/>
        </p:nvPicPr>
        <p:blipFill>
          <a:blip r:embed="rId1"/>
          <a:stretch/>
        </p:blipFill>
        <p:spPr>
          <a:xfrm>
            <a:off x="8354880" y="3886200"/>
            <a:ext cx="157824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FEB-DA05-436F-836D-5EE4610A4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cc66"/>
                </a:solidFill>
                <a:latin typeface="Arial"/>
              </a:rPr>
              <a:t>Поколения центрове за обслужван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99"/>
                </a:solidFill>
                <a:latin typeface="Times New Roman"/>
              </a:rPr>
              <a:t>Първо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– телефонно обажда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99"/>
                </a:solidFill>
                <a:latin typeface="Times New Roman"/>
              </a:rPr>
              <a:t>Второ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– информационни и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комуникационни 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99"/>
                </a:solidFill>
                <a:latin typeface="Times New Roman"/>
              </a:rPr>
              <a:t>Трето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– мрежи и мултимедийни услу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99"/>
                </a:solidFill>
                <a:latin typeface="Times New Roman"/>
              </a:rPr>
              <a:t>Четвърто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 – центрове за контак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logo" descr=""/>
          <p:cNvPicPr/>
          <p:nvPr/>
        </p:nvPicPr>
        <p:blipFill>
          <a:blip r:embed="rId1"/>
          <a:stretch/>
        </p:blipFill>
        <p:spPr>
          <a:xfrm>
            <a:off x="8001000" y="3962520"/>
            <a:ext cx="1577880" cy="13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-it.fmi.uni-sofia.bg/TOSCA/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EDD-822C-4C39-A7FD-BEF077738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1:24:52Z</dcterms:created>
  <dc:creator>petkor</dc:creator>
  <dc:description/>
  <dc:language>en-US</dc:language>
  <cp:lastModifiedBy>petkor</cp:lastModifiedBy>
  <dcterms:modified xsi:type="dcterms:W3CDTF">2002-05-16T14:24:52Z</dcterms:modified>
  <cp:revision>50</cp:revision>
  <dc:subject/>
  <dc:title>Методи и средства за развитие на центровете и за удовлетворяване на потребителите им </dc:title>
</cp:coreProperties>
</file>