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2E7-6F8C-4F3D-BFB4-F380CAA3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663-F427-4995-9B16-DEABBFE9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854-2EA6-4AA0-8B41-4087848C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750-E91D-43DE-B576-BF863A7E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DC9A-59B1-464A-AE28-E3CB0C79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21F7-2AA9-4051-AD54-293FA162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46E0-6A99-48D5-A9F4-F7B531D6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3905-E9A3-4F4C-842C-08E026E5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AF03-9757-478F-AA3C-61163C8C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9D39-FA3B-4C12-BDEA-DB7E2074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1552-BC6F-494F-9179-3AD9B345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151-5CF4-4889-A625-D382638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5506-815D-43A1-934A-40A84538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4961-0564-431F-8CED-DE533BD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08D8-599C-4450-B397-EB687FA4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412E-C0F3-4A3B-8E75-72466905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FB8A-E48F-44EC-91A1-78D1D0DB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0B1-A10B-4D8A-8C54-E579BF26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083-2FDA-4E7F-ACB2-2C3CE634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F42-5BF0-4A6C-B453-54875B5A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8E3F-EA40-4983-82D4-D38938B2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AFD-3ABB-4FAC-88DA-BC337EE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E37-B4AF-4D3C-B177-22F744ED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EB5-0730-4141-A1E5-FB24B61F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EDC2-232C-4468-8CE4-3E48FF097B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7367-8C4E-4C90-896C-1ACB55F393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660066"/>
                </a:solidFill>
                <a:latin typeface="Tahoma"/>
              </a:rPr>
              <a:t>Т О С К А</a:t>
            </a:r>
            <a:r>
              <a:rPr b="0" lang="bg-BG" sz="4800" spc="-1" strike="noStrike">
                <a:solidFill>
                  <a:srgbClr val="660066"/>
                </a:solidFill>
                <a:latin typeface="Tahoma"/>
                <a:ea typeface="Times New Roman"/>
              </a:rPr>
              <a:t>:</a:t>
            </a:r>
            <a:r>
              <a:rPr b="0" lang="bg-BG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3200" spc="-1" strike="noStrike">
                <a:solidFill>
                  <a:srgbClr val="40458c"/>
                </a:solidFill>
                <a:latin typeface="Tahoma"/>
              </a:rPr>
              <a:t>Сравнително изследване на центровете за обажд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70200" y="5638680"/>
            <a:ext cx="90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58c"/>
                </a:solidFill>
                <a:latin typeface="Times New Roman"/>
              </a:rPr>
              <a:t>Ст.ас. Тодор Ялъмов, Стопански факултет, СУ “Св. Кл. Охридски”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ТОС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0458c"/>
                </a:solidFill>
                <a:latin typeface="Tahoma"/>
              </a:rPr>
              <a:t>Сравнително изследване на трудовите условия и индустриалните отношения в центрове за обаждания в 8 европейски страни финансирано от Европейската комисия 2000-200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ww-it.fmi.uni-sofia.bg/TOS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Центровете за обаждания в Българ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Индустрията на ЦО е все още в своя зарадиш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Пракически няма изследвания по въпроса преди 2000 годин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Все още има объркване и незнание на понятията – 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ll-center” </a:t>
            </a: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е познато повече в кръга на технологичните доставчици отколкото в този на ползвателите им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Разположе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70120" y="1905120"/>
          <a:ext cx="77072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1905120"/>
                    <a:ext cx="7707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Езици на които се предлага обслужван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1384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795320" y="1905120"/>
          <a:ext cx="58564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905120"/>
                    <a:ext cx="5856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Разпределение по сектор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13840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2055960" y="1905120"/>
            <a:ext cx="533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Разпределение по тип обажда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58880" y="1905120"/>
          <a:ext cx="61311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1905120"/>
                    <a:ext cx="6131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Разпределние по разме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428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320840" y="1905120"/>
          <a:ext cx="68072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905120"/>
                    <a:ext cx="6807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Разпределние по тип целева груп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281448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38200" y="1905120"/>
          <a:ext cx="65721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905120"/>
                    <a:ext cx="6572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Работно врем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72412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384200" y="1905120"/>
          <a:ext cx="66801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1905120"/>
                    <a:ext cx="6680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Заключение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Налице е силен дисбаланс по отношение на половете – 87% жен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Все още не се използват адекватно възможностите на новите информационни технологи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Все още центровете за обажданията предоставят предимно информация, и не са средство за управление на отношенията с клиентит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Исторически ракур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40458c"/>
                </a:solidFill>
                <a:latin typeface="Tahoma"/>
              </a:rPr>
              <a:t>Началот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Телефонните централи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Директен маркетинг по телефона (80-те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Проучвания по телефона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40458c"/>
                </a:solidFill>
                <a:latin typeface="Tahoma"/>
              </a:rPr>
              <a:t>Новото врем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Конвергенция между телефона и компютър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Мощни бази данн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Интернет базирани центров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Заключение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Налице е огромен потенциал за навлизане на чужди инвестиции чрез оутсорсинг на центрове за обаждан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Сериозен потенциал за растеж на индустрията на центровете за обаждане виждаме в развитието на системата от “центрове за обслужване на едно гише” в рамките на централната и местни вла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Благодаря за вниманието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60066"/>
                </a:solidFill>
                <a:latin typeface="Tahoma"/>
              </a:rPr>
              <a:t>Растеж на заетите </a:t>
            </a:r>
            <a:br>
              <a:rPr sz="3600"/>
            </a:br>
            <a:r>
              <a:rPr b="0" lang="bg-BG" sz="3600" spc="-1" strike="noStrike">
                <a:solidFill>
                  <a:srgbClr val="660066"/>
                </a:solidFill>
                <a:latin typeface="Tahoma"/>
              </a:rPr>
              <a:t>в центровете за обаждания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50020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914400" y="1676520"/>
            <a:ext cx="7396200" cy="4114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21880" y="583236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58c"/>
                </a:solidFill>
                <a:latin typeface="Times New Roman"/>
              </a:rPr>
              <a:t>Източник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: Datamonitor Survey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Типология на центровете за обажда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0458c"/>
                </a:solidFill>
                <a:latin typeface="Tahoma"/>
              </a:rPr>
              <a:t>По отношение на посоката на обаждан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0458c"/>
                </a:solidFill>
                <a:latin typeface="Tahoma"/>
              </a:rPr>
              <a:t>Функционална типолог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0458c"/>
                </a:solidFill>
                <a:latin typeface="Tahoma"/>
              </a:rPr>
              <a:t>По отношение на целевата груп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0458c"/>
                </a:solidFill>
                <a:latin typeface="Tahoma"/>
              </a:rPr>
              <a:t>Техническа типология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0458c"/>
                </a:solidFill>
                <a:latin typeface="Tahoma"/>
              </a:rPr>
              <a:t>По отношение на добавена стойнос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Функционална типолог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1981080"/>
          <a:ext cx="8001000" cy="3727440"/>
        </p:xfrm>
        <a:graphic>
          <a:graphicData uri="http://schemas.openxmlformats.org/drawingml/2006/table">
            <a:tbl>
              <a:tblPr/>
              <a:tblGrid>
                <a:gridCol w="5105520"/>
                <a:gridCol w="2895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Разпространение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mer service and support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cluding: customer account management, ins. claims, emergency services, help desk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2 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keting / Sales promotion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cluding: reservations, order-taking, canvassing, telemarketing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1 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duction by telephone including: market surveys, debt collection, brokerage, purchasing</a:t>
                      </a: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2 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ale of information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cluding: information services, telephone information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 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thers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cluding: message taking, after-sales team support, making appointments</a:t>
                      </a:r>
                      <a:r>
                        <a:rPr b="0" lang="en-GB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 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1281600" y="5908680"/>
            <a:ext cx="26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58c"/>
                </a:solidFill>
                <a:latin typeface="Times New Roman"/>
              </a:rPr>
              <a:t>Източник: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giw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60066"/>
                </a:solidFill>
                <a:latin typeface="Tahoma"/>
              </a:rPr>
              <a:t>Фактори за успех на лидерите -Канада, Ирландия и Индия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Центровете за обаждания са превърнати в стратегическа област за развитие и подкрепена от правителствени политики (например Брунсуик, Канада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Наличие на добре образована и умела (вкл. езиково) работна ръка на достъпна цена (Индия, Ирландия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Данъчни облекч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Добра комуникационна инфрастуктура и удобно законодателство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Управление на отношенията с клиенти (УОК)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УОК започва с предоставянето на възможността клиентите да Ви потърсят по всяко време, по всякакъв начин и по всякакви въпроси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58c"/>
                </a:solidFill>
                <a:latin typeface="Tahoma"/>
              </a:rPr>
              <a:t>Центровете за обаждания вече използуват не само телефон, но и интернет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MS, WA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58c"/>
                </a:solidFill>
                <a:latin typeface="Tahoma"/>
              </a:rPr>
              <a:t>Центровете за обаждания не преодставят само инфомрация, но предлагат знание, съвет и цялостно обслужва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Управление на отношенията с клиенти (УОК)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УОК разчита на детайлно познаване на потребителските навици на клиентите с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58c"/>
                </a:solidFill>
                <a:latin typeface="Tahoma"/>
              </a:rPr>
              <a:t>може да стане чрез формализирани бази от данни ил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58c"/>
                </a:solidFill>
                <a:latin typeface="Tahoma"/>
              </a:rPr>
              <a:t>добре управлявана система от “агенти на знанието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УОК управлява отношенията, не клиентите и уважава личното пространство на клиент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660066"/>
                </a:solidFill>
                <a:latin typeface="Tahoma"/>
              </a:rPr>
              <a:t>Пазара на приложения и услуг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Производителите на приложения и услуги за центрове за обаждания (ЦО) и управление на отношенията с клиенти (УОК) се конкурират за постоянно растящ пазар, оцеяняван от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DC </a:t>
            </a: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на около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D </a:t>
            </a: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330 милиарда (2000 година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Налице е процес на интегриране или съюзяване на фирмите производителки на оборудване и софтуер за ЦО и УОК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08:34:46Z</dcterms:created>
  <dc:creator>Todor</dc:creator>
  <dc:description/>
  <dc:language>en-US</dc:language>
  <cp:lastModifiedBy>Todor</cp:lastModifiedBy>
  <dcterms:modified xsi:type="dcterms:W3CDTF">2002-05-17T05:21:24Z</dcterms:modified>
  <cp:revision>14</cp:revision>
  <dc:subject/>
  <dc:title>Центровете за обаждания: </dc:title>
</cp:coreProperties>
</file>